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DDE-61ED-4E5D-AE71-49401C0C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C22-024D-4FE8-B9F3-5B4BA28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A32-C90A-479D-8D26-7CECC7D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BFC-CBF5-46DB-B5E8-6CC1741F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FDD7-3DE5-48B2-AF4F-5D56D3EE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698F-8AE5-4649-9030-6E06C812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35E4-1185-4DCD-94DA-730904F9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1C6-5FF3-40AC-8E87-38E1DC53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4E3C-0AC2-44C3-AA09-11BBA33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16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973-7303-412C-BDE9-E78DA5C8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D54B-7294-4C65-9B05-94930BBD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8C5-5B2C-473D-958A-46908FD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A1C8-2C2E-4D3F-9C0D-C73D8DF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FB53-DAF8-4DC3-9FB3-B1BAB7F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09F-2C51-4DA5-82CB-2B012EA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69C8-B6ED-4BB8-9156-51395F1D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1664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8720" y="152388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949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1664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8720" y="3912120"/>
            <a:ext cx="230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7D11-60BC-4A00-BB76-EC1F49B1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BBA-2551-434D-8C2E-B71CB5B2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2B13-25BA-4A70-8DF0-F0E7EB2F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AFC-2DDD-493F-94DB-56D0E73C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80520"/>
            <a:ext cx="71629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2AF-884B-4BE9-BB6E-425BA65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4D4-7FEA-4FD3-B900-C129DAA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1212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4CB-D2FB-4F56-A21F-7C1AA3D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523880"/>
            <a:ext cx="3495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12120"/>
            <a:ext cx="7162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89F-35BD-466C-896C-8B90D62C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FDC-5901-4881-A74E-F9C316C8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5A3-13BD-4140-94F0-912E61F0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relat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mechanics: using all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parts efficiently to saf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t and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alignments:  refers to correct positioning of head, back, and lim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re: position of body parts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  the ability to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: the ability to maintain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dy position that does not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dy support: advise us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ody at work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damage when lift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, and transferring cl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for proper body mecha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ronger, larger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form tasks which requi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moving heavy objec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ush or pull instea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ting th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2193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le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Get help if object feels to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vy to li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Lift in a smooth mo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vent inj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good po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twisting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d knees, keep back straight, spread feet about one 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t, and use leg mus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lif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dy Mechan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s which a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ing, lifting,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erring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dy Mechan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s which affect mov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ting, or transferring client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 equipment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ed level of conscious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or vision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21:21:37Z</dcterms:created>
  <dc:creator>Dave Nelson</dc:creator>
  <dc:description/>
  <dc:language>en-US</dc:language>
  <cp:lastModifiedBy>Mary Chandler</cp:lastModifiedBy>
  <dcterms:modified xsi:type="dcterms:W3CDTF">2001-05-27T22:10:55Z</dcterms:modified>
  <cp:revision>13</cp:revision>
  <dc:subject/>
  <dc:title>No Slide Title</dc:title>
</cp:coreProperties>
</file>